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5CB-0BDF-4118-9267-61250F4E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9DD-E9EB-4B9A-8BFC-C0E28FFF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B17-1D86-43DE-9DDE-8B86DCF4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4E4-1B8C-4B19-B8A9-03C9A9E0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7E26-3161-4852-A168-462CAC25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0F04-DABA-49D3-9F67-751918D1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07D5-6BC7-43A3-B81D-07F37E12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ABDC-6602-48DD-A447-3AB1B8F1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CC9F-9760-4F5E-87E0-34A36DC2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1F74-B0E6-4D6A-890C-4480206D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9F3E-8651-444E-BC48-083A6EE9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EE4-7D82-45F9-9BBF-FE94F09C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8BC1-23A4-44B8-A237-0101EDE4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B863-CBE6-4E1C-8EBB-4B212A3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45A3-94DC-43C3-AB46-0181D4BD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9CB9-FC96-4A37-837D-BFC5DCB6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CF66-58E2-41AC-8211-C5342A0D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A092-C3E8-4B20-83E1-62BFB6BE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080C0-6F7F-4703-812E-E67D6439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7F033-CBA7-4361-A940-D3203BEB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A261-952C-4FD8-930E-FDB3E650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8B890-48DC-42EA-AC4A-7ED2F309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612-E61C-43AE-909D-311ED4AF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A97C-A354-495B-BC87-CE775FEC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3C33B-29E6-45D8-8EF4-57F163A0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86BC-9C4D-4183-A707-3CABB926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CDA0C-62A4-40D1-B41F-05CFD38F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E8E7-DDCC-4ABA-B08B-B66227BF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61E4-469F-439B-86A1-FAEC9ABB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A8681-B6CE-4117-A819-080E0361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FB237-E1A3-43CC-ADC8-FAE328AD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1047-7F51-419B-A764-67A0EC4E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74B65-11A1-4783-8033-50140AF9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0EE-37FF-4312-9C61-1BF05612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9C5C8-E339-4A0D-BECF-404FB549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4DCA2-F73A-4F25-B866-D8DD6204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6290-072C-44B0-8CAF-6F8DA02E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B6B72-740C-468E-8655-DF97DEB4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F468-81AC-4FA2-AC99-AFA0DAE9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2338-D365-4A24-A594-8906BF19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AD833-0F4F-42AE-86E9-A69E0B3A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6449-2B19-42EF-9748-8DA8EB01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116E0-2AC5-4EAD-A0E2-CF62CADE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DD600-B297-4788-A4EB-E0312C9E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DDF-DC11-45EB-A250-53A4B940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374AF-BE18-4326-A17B-83C8326C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6653-EA89-4D0B-BD12-72CF82D1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AE608-AC6F-4724-9A91-6EB1F051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66AD9-046B-41B1-B455-EECE3EDC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AE68D-1D26-4EED-BB8C-88128D7F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E85D5-49DC-4F9E-8BCE-8F63C305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9757-F61C-417F-87DE-950766A2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DEDB-8497-4593-9D95-1ED9DD1D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8C2D-3702-4EC9-8039-189A89AC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9767-C227-4B40-8D57-222C99B4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235-C3E2-4346-A257-0364E1E7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FF5EF-6964-4E45-AA39-D7A39147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E10-3AE4-47BD-B8E5-6D11AC52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6DD-8AFF-4DB8-BF7D-D16F5718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FBC-F4E4-4058-81BB-B01918D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bebe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6969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1C1D-CD3B-4B5A-998D-D8A746198B2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bebe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6969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DA06-FBEB-46FD-8D8D-62696795E8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bebe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6969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D037-DE2B-4EF3-AC3B-319963EE879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bebe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6969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08F4-A860-44FA-A238-224576DAA4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bebe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6969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6969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ing Hospitality, 3rd ed., Hsu/Pow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9CA8-5FD7-41B4-9035-D3D30DC014A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/>
          <p:cNvSpPr/>
          <p:nvPr/>
        </p:nvSpPr>
        <p:spPr>
          <a:xfrm>
            <a:off x="4191120" y="5334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4191120" y="46483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191120" y="32767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4191120" y="2590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4191120" y="19051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4191120" y="3962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2819520" y="1219320"/>
            <a:ext cx="3124080" cy="64260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 Quality Orientation of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2819520" y="22096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oyee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819520" y="28954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oyee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819520" y="42670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Satisf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2819520" y="35812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ivery of Servic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2819520" y="49528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Re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2819520" y="5638680"/>
            <a:ext cx="3124080" cy="3682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5"/>
          <p:cNvCxnSpPr/>
          <p:nvPr/>
        </p:nvCxnSpPr>
        <p:spPr>
          <a:xfrm flipH="1">
            <a:off x="5942880" y="586692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246" name="AutoShape 16"/>
          <p:cNvCxnSpPr/>
          <p:nvPr/>
        </p:nvCxnSpPr>
        <p:spPr>
          <a:xfrm flipH="1">
            <a:off x="5942880" y="239040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7" name="AutoShape 17"/>
          <p:cNvCxnSpPr/>
          <p:nvPr/>
        </p:nvCxnSpPr>
        <p:spPr>
          <a:xfrm flipH="1">
            <a:off x="5942880" y="1541160"/>
            <a:ext cx="610200" cy="108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8" name="Line 19"/>
          <p:cNvSpPr/>
          <p:nvPr/>
        </p:nvSpPr>
        <p:spPr>
          <a:xfrm>
            <a:off x="6553080" y="1523880"/>
            <a:ext cx="0" cy="434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114300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ervice Profit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4"/>
          <p:cNvSpPr/>
          <p:nvPr/>
        </p:nvSpPr>
        <p:spPr>
          <a:xfrm>
            <a:off x="1219320" y="22860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6560" indent="-73656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pitality Service Deli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2513160" y="1144440"/>
            <a:ext cx="3477960" cy="487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666880" y="1144440"/>
            <a:ext cx="3370320" cy="42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ERVICE DELIVERY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4541760" y="1800360"/>
            <a:ext cx="428760" cy="1019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4541760" y="3838680"/>
            <a:ext cx="428760" cy="1019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3"/>
          <a:stretch/>
        </p:blipFill>
        <p:spPr>
          <a:xfrm>
            <a:off x="5049720" y="2819520"/>
            <a:ext cx="428760" cy="10191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7"/>
          <p:cNvSpPr/>
          <p:nvPr/>
        </p:nvSpPr>
        <p:spPr>
          <a:xfrm>
            <a:off x="5991120" y="1217520"/>
            <a:ext cx="31528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COMMUNICATION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Marketing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-of-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ual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Operational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lling and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Correspondence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one Co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Directed at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352680" y="55119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Times New Roman"/>
              </a:rPr>
              <a:t>Visible to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9"/>
          <p:cNvSpPr/>
          <p:nvPr/>
        </p:nvSpPr>
        <p:spPr>
          <a:xfrm rot="1734600">
            <a:off x="5121000" y="398304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0"/>
          <p:cNvSpPr/>
          <p:nvPr/>
        </p:nvSpPr>
        <p:spPr>
          <a:xfrm rot="19893000">
            <a:off x="5121000" y="209052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4686480" y="3036960"/>
            <a:ext cx="145800" cy="582480"/>
          </a:xfrm>
          <a:prstGeom prst="upDownArrow">
            <a:avLst>
              <a:gd name="adj1" fmla="val 50000"/>
              <a:gd name="adj2" fmla="val 7953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2"/>
          <p:cNvSpPr/>
          <p:nvPr/>
        </p:nvSpPr>
        <p:spPr>
          <a:xfrm>
            <a:off x="4397400" y="2746440"/>
            <a:ext cx="0" cy="123660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3"/>
          <p:cNvSpPr/>
          <p:nvPr/>
        </p:nvSpPr>
        <p:spPr>
          <a:xfrm>
            <a:off x="4397400" y="2746440"/>
            <a:ext cx="14436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4397400" y="3983040"/>
            <a:ext cx="14436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4033800" y="3402000"/>
            <a:ext cx="363600" cy="0"/>
          </a:xfrm>
          <a:prstGeom prst="line">
            <a:avLst/>
          </a:prstGeom>
          <a:ln w="572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 flipV="1">
            <a:off x="2513160" y="2528640"/>
            <a:ext cx="0" cy="124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914400" y="2454120"/>
            <a:ext cx="3200400" cy="1371960"/>
          </a:xfrm>
          <a:prstGeom prst="rect">
            <a:avLst/>
          </a:prstGeom>
          <a:solidFill>
            <a:srgbClr val="ccffff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HOSPITALITY OPERATING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 of the Hou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nt of the House          Faciliti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 Staf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est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004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 flipV="1">
            <a:off x="2513160" y="2746080"/>
            <a:ext cx="0" cy="12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"/>
          <p:cNvSpPr/>
          <p:nvPr/>
        </p:nvSpPr>
        <p:spPr>
          <a:xfrm>
            <a:off x="990720" y="274644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990720" y="304812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990720" y="3276720"/>
            <a:ext cx="30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2"/>
          <p:cNvSpPr/>
          <p:nvPr/>
        </p:nvSpPr>
        <p:spPr>
          <a:xfrm>
            <a:off x="5991120" y="1144440"/>
            <a:ext cx="3000600" cy="457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1143000" y="4495680"/>
            <a:ext cx="1325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Not General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to 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5"/>
          <p:cNvSpPr/>
          <p:nvPr/>
        </p:nvSpPr>
        <p:spPr>
          <a:xfrm flipH="1">
            <a:off x="5638320" y="48769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6"/>
          <p:cNvSpPr/>
          <p:nvPr/>
        </p:nvSpPr>
        <p:spPr>
          <a:xfrm flipH="1">
            <a:off x="5638320" y="51814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5628960" y="251460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 flipH="1">
            <a:off x="5628960" y="281952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9"/>
          <p:cNvSpPr/>
          <p:nvPr/>
        </p:nvSpPr>
        <p:spPr>
          <a:xfrm flipH="1">
            <a:off x="5628960" y="31240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30"/>
          <p:cNvSpPr/>
          <p:nvPr/>
        </p:nvSpPr>
        <p:spPr>
          <a:xfrm flipH="1">
            <a:off x="5628960" y="342900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1"/>
          <p:cNvSpPr/>
          <p:nvPr/>
        </p:nvSpPr>
        <p:spPr>
          <a:xfrm flipH="1">
            <a:off x="5628960" y="38098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 flipH="1">
            <a:off x="5628960" y="449568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732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Service Quality Assessment Criteria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732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Perpetua"/>
              </a:rPr>
              <a:t>Tangib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appearance of physical facilities, equipment, personnel, and communication material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Perpetu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ability to perform the promised service dependably and accuratel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Perpetua"/>
              </a:rPr>
              <a:t>Responsivenes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willingness to help customers and to provide prompt servic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Perpetua"/>
              </a:rPr>
              <a:t>Assur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knowledge and courtesy of employees and their ability to convey trust and confidenc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Perpetua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provision of caring, individualized attention to customers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Service Quality Gaps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281600" y="1219320"/>
            <a:ext cx="2035440" cy="7038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Word of Mo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194720" y="1371600"/>
            <a:ext cx="1843560" cy="398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Pers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922440" y="1371600"/>
            <a:ext cx="1927080" cy="398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Past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118760" y="2133720"/>
            <a:ext cx="2040120" cy="398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Expect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4158720" y="3098880"/>
            <a:ext cx="2094840" cy="39888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Times New Roman"/>
              </a:rPr>
              <a:t>Perceiv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4194720" y="3936960"/>
            <a:ext cx="195480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ervic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3963600" y="4927680"/>
            <a:ext cx="252936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Service Quality 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657600" y="5867280"/>
            <a:ext cx="5334120" cy="3988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gmt. Perceptions of Consumer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011000" y="3860640"/>
            <a:ext cx="2035440" cy="1008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Exter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to Consu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1219320" y="36576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5029200" y="1752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2209680" y="19810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209680" y="23623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7848720" y="1752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7"/>
          <p:cNvSpPr/>
          <p:nvPr/>
        </p:nvSpPr>
        <p:spPr>
          <a:xfrm flipH="1">
            <a:off x="6171840" y="22860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8"/>
          <p:cNvSpPr/>
          <p:nvPr/>
        </p:nvSpPr>
        <p:spPr>
          <a:xfrm flipV="1">
            <a:off x="5029200" y="53337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9"/>
          <p:cNvSpPr/>
          <p:nvPr/>
        </p:nvSpPr>
        <p:spPr>
          <a:xfrm flipV="1">
            <a:off x="5029200" y="43430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0"/>
          <p:cNvSpPr/>
          <p:nvPr/>
        </p:nvSpPr>
        <p:spPr>
          <a:xfrm flipV="1">
            <a:off x="5029200" y="3505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6553080" y="51055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2"/>
          <p:cNvSpPr/>
          <p:nvPr/>
        </p:nvSpPr>
        <p:spPr>
          <a:xfrm flipV="1">
            <a:off x="7924680" y="48765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"/>
          <p:cNvSpPr/>
          <p:nvPr/>
        </p:nvSpPr>
        <p:spPr>
          <a:xfrm flipV="1">
            <a:off x="7848720" y="24382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4"/>
          <p:cNvSpPr/>
          <p:nvPr/>
        </p:nvSpPr>
        <p:spPr>
          <a:xfrm flipH="1">
            <a:off x="6248160" y="3352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5"/>
          <p:cNvSpPr/>
          <p:nvPr/>
        </p:nvSpPr>
        <p:spPr>
          <a:xfrm flipH="1">
            <a:off x="6171840" y="24382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4495680" y="2514600"/>
            <a:ext cx="0" cy="6094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7"/>
          <p:cNvSpPr/>
          <p:nvPr/>
        </p:nvSpPr>
        <p:spPr>
          <a:xfrm>
            <a:off x="4495680" y="4343400"/>
            <a:ext cx="0" cy="5335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8"/>
          <p:cNvSpPr/>
          <p:nvPr/>
        </p:nvSpPr>
        <p:spPr>
          <a:xfrm>
            <a:off x="4495680" y="5334120"/>
            <a:ext cx="0" cy="5331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9"/>
          <p:cNvSpPr/>
          <p:nvPr/>
        </p:nvSpPr>
        <p:spPr>
          <a:xfrm>
            <a:off x="6172200" y="4191120"/>
            <a:ext cx="9144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30"/>
          <p:cNvSpPr/>
          <p:nvPr/>
        </p:nvSpPr>
        <p:spPr>
          <a:xfrm flipH="1">
            <a:off x="2971440" y="251460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2971800" y="2514600"/>
            <a:ext cx="0" cy="35053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2971800" y="6019920"/>
            <a:ext cx="6858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3"/>
          <p:cNvSpPr/>
          <p:nvPr/>
        </p:nvSpPr>
        <p:spPr>
          <a:xfrm>
            <a:off x="987120" y="504360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is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4"/>
          <p:cNvSpPr/>
          <p:nvPr/>
        </p:nvSpPr>
        <p:spPr>
          <a:xfrm>
            <a:off x="2895480" y="54338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5"/>
          <p:cNvSpPr/>
          <p:nvPr/>
        </p:nvSpPr>
        <p:spPr>
          <a:xfrm>
            <a:off x="3045960" y="43434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6"/>
          <p:cNvSpPr/>
          <p:nvPr/>
        </p:nvSpPr>
        <p:spPr>
          <a:xfrm>
            <a:off x="5330520" y="432756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verprom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7"/>
          <p:cNvSpPr/>
          <p:nvPr/>
        </p:nvSpPr>
        <p:spPr>
          <a:xfrm>
            <a:off x="3047040" y="25909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1295280" y="37339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Mark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9"/>
          <p:cNvSpPr/>
          <p:nvPr/>
        </p:nvSpPr>
        <p:spPr>
          <a:xfrm>
            <a:off x="1203480" y="32148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Cost of Quality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Good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preven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Bad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pection and corre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Perpetua"/>
              </a:rPr>
              <a:t>Ugly cost: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defects and unsatisfied gues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3" name="Picture 4" descr="1 10 100.png"/>
          <p:cNvPicPr/>
          <p:nvPr/>
        </p:nvPicPr>
        <p:blipFill>
          <a:blip r:embed="rId1"/>
          <a:stretch/>
        </p:blipFill>
        <p:spPr>
          <a:xfrm>
            <a:off x="1828800" y="2971800"/>
            <a:ext cx="445788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Principles of Waiting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36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occupied waits seems longer than occupied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Anxiety makes the wait seem longer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Waits of uncertain duration seem longer than those of known length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explained waits seem longer than explained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Unfair waits seem longer than equitable waits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96969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erpetua"/>
              </a:rPr>
              <a:t>A solo wait seems longest of all</a:t>
            </a:r>
            <a:endParaRPr b="0" lang="en-US" sz="2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6" name="Object 4" descr=""/>
          <p:cNvPicPr/>
          <p:nvPr/>
        </p:nvPicPr>
        <p:blipFill>
          <a:blip r:embed="rId1"/>
          <a:stretch/>
        </p:blipFill>
        <p:spPr>
          <a:xfrm>
            <a:off x="6629400" y="144360"/>
            <a:ext cx="2209680" cy="15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03:40:50Z</dcterms:created>
  <dc:creator>Sun</dc:creator>
  <dc:description/>
  <dc:language>en-US</dc:language>
  <cp:lastModifiedBy>robert</cp:lastModifiedBy>
  <cp:lastPrinted>2000-01-17T04:09:54Z</cp:lastPrinted>
  <dcterms:modified xsi:type="dcterms:W3CDTF">2011-04-12T03:20:27Z</dcterms:modified>
  <cp:revision>20</cp:revision>
  <dc:subject/>
  <dc:title>Nature of Services</dc:title>
</cp:coreProperties>
</file>